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5777-C447-49A1-836A-D1BBAF1E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522B-86DC-4699-8A2F-239C46CC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0C12-C595-4BFF-88A9-AE676672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D68D-4A79-46BE-91C4-6B133E56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1739-130D-4D4F-992D-FC1DD6E3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668D-C9D8-4C27-84CB-C6FFFE9D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3A37-67DC-40D9-84B6-D712E20E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8A30-F779-434B-A7D5-F5406561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3463-AEF4-41C4-A347-FE9E5A77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46C8-4FC7-4931-8567-2D38B179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DC34-9ABB-4939-8CA4-2FDA5E6F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4E6-8300-476F-9E7E-8A798AA6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C218-4BBA-4493-AE69-7F8A4CF23D0E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CE33-BB4D-44D6-A95A-CBC5108E026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rse_code.wa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rse_code.wa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"/>
          <p:cNvGrpSpPr/>
          <p:nvPr/>
        </p:nvGrpSpPr>
        <p:grpSpPr>
          <a:xfrm>
            <a:off x="0" y="907920"/>
            <a:ext cx="9144000" cy="2930400"/>
            <a:chOff x="0" y="907920"/>
            <a:chExt cx="9144000" cy="2930400"/>
          </a:xfrm>
        </p:grpSpPr>
        <p:sp>
          <p:nvSpPr>
            <p:cNvPr id="42" name="TextBox 3"/>
            <p:cNvSpPr/>
            <p:nvPr/>
          </p:nvSpPr>
          <p:spPr>
            <a:xfrm>
              <a:off x="0" y="907920"/>
              <a:ext cx="914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00"/>
                  </a:solidFill>
                  <a:latin typeface="Comic Sans MS"/>
                </a:rPr>
                <a:t>Functional Skill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TextBox 4"/>
            <p:cNvSpPr/>
            <p:nvPr/>
          </p:nvSpPr>
          <p:spPr>
            <a:xfrm>
              <a:off x="0" y="301320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ff00"/>
                  </a:solidFill>
                  <a:latin typeface="Comic Sans MS"/>
                </a:rPr>
                <a:t>Code Breaking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398680" y="2565360"/>
            <a:ext cx="4346640" cy="358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819440" y="549360"/>
            <a:ext cx="5505120" cy="33804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0" y="44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reason why this is a good way to make a code is that there are lots of ways of mixing up the alphab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0" y="1916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ow many ways do you think we could mix up all the let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0" y="2708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Over 400, 000, 000, 000, 000, 000, 000, 000, 0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0" y="342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o say that number out loud it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Four Hundred Sept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1"/>
          <a:stretch/>
        </p:blipFill>
        <p:spPr>
          <a:xfrm>
            <a:off x="6659640" y="4637160"/>
            <a:ext cx="2195280" cy="2220840"/>
          </a:xfrm>
          <a:prstGeom prst="rect">
            <a:avLst/>
          </a:prstGeom>
          <a:ln w="0">
            <a:noFill/>
          </a:ln>
        </p:spPr>
      </p:pic>
      <p:sp>
        <p:nvSpPr>
          <p:cNvPr id="109" name="Rounded Rectangular Callout 10"/>
          <p:cNvSpPr/>
          <p:nvPr/>
        </p:nvSpPr>
        <p:spPr>
          <a:xfrm>
            <a:off x="324000" y="4437000"/>
            <a:ext cx="6011640" cy="2160720"/>
          </a:xfrm>
          <a:prstGeom prst="wedgeRoundRectCallout">
            <a:avLst>
              <a:gd name="adj1" fmla="val 74888"/>
              <a:gd name="adj2" fmla="val -2435"/>
              <a:gd name="adj3" fmla="val 16667"/>
            </a:avLst>
          </a:prstGeom>
          <a:solidFill>
            <a:srgbClr val="5959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b0f0"/>
                </a:solidFill>
                <a:latin typeface="Comic Sans MS"/>
              </a:rPr>
              <a:t>Interesting fact: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If you read that number in Britain before 1974 the correct way to say it would have been </a:t>
            </a: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four hundred quadrillion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. In European countries you would still use the old way, but since 1974 most English speaking countries now use what is called the </a:t>
            </a: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short system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(which was previously referred to as the </a:t>
            </a: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American System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0" y="836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Howev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0"/>
          <p:cNvGrpSpPr/>
          <p:nvPr/>
        </p:nvGrpSpPr>
        <p:grpSpPr>
          <a:xfrm>
            <a:off x="0" y="1773360"/>
            <a:ext cx="9144000" cy="3921120"/>
            <a:chOff x="0" y="1773360"/>
            <a:chExt cx="9144000" cy="3921120"/>
          </a:xfrm>
        </p:grpSpPr>
        <p:sp>
          <p:nvSpPr>
            <p:cNvPr id="113" name="TextBox 11"/>
            <p:cNvSpPr/>
            <p:nvPr/>
          </p:nvSpPr>
          <p:spPr>
            <a:xfrm>
              <a:off x="0" y="486900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thematicians can crack the code using something called </a:t>
              </a:r>
              <a:r>
                <a:rPr b="0" i="1" lang="en-GB" sz="2400" spc="-1" strike="noStrike">
                  <a:solidFill>
                    <a:srgbClr val="ffff00"/>
                  </a:solidFill>
                  <a:latin typeface="Comic Sans MS"/>
                </a:rPr>
                <a:t>frequency analysis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2" descr=""/>
            <p:cNvPicPr/>
            <p:nvPr/>
          </p:nvPicPr>
          <p:blipFill>
            <a:blip r:embed="rId1"/>
            <a:stretch/>
          </p:blipFill>
          <p:spPr>
            <a:xfrm>
              <a:off x="3162600" y="1773360"/>
              <a:ext cx="2818800" cy="2818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0" y="486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at does this graph show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0" y="5661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ow could we use this to work out what a coded message say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254320" y="907920"/>
            <a:ext cx="4633920" cy="352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0" y="450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e are going to see if we can work out a coded sheet as a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0" y="5373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You are going to be given a sheet of code and will be responsible for counting the number of times you see a specific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5"/>
          <p:cNvSpPr/>
          <p:nvPr/>
        </p:nvSpPr>
        <p:spPr>
          <a:xfrm>
            <a:off x="518760" y="40464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Comic Sans MS"/>
              </a:rPr>
              <a:t>Task 2 – As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254320" y="907920"/>
            <a:ext cx="4633920" cy="352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0" y="486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e are going to fill in a table using the information from the letters you have just counted and the graph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518760" y="40464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Comic Sans MS"/>
              </a:rPr>
              <a:t>Task 2 – As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254320" y="907920"/>
            <a:ext cx="4633920" cy="352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673280" y="4508640"/>
            <a:ext cx="5797440" cy="2185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2254320" y="907920"/>
            <a:ext cx="4633920" cy="35258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6"/>
          <p:cNvSpPr/>
          <p:nvPr/>
        </p:nvSpPr>
        <p:spPr>
          <a:xfrm>
            <a:off x="518760" y="40464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Comic Sans MS"/>
              </a:rPr>
              <a:t>Task 2 – As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ow lets try to read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990800" y="1762200"/>
            <a:ext cx="5162400" cy="333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0" y="1125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You have a list of tasks to finish you of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241920" y="40464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Comic Sans MS"/>
              </a:rPr>
              <a:t>Task 3 – On your own or in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0" y="1916280"/>
            <a:ext cx="91440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ke an A3 poster of the codes we have been looking at explaining how they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ry to crack a harder code sheet that is made up of a combination of mixing up letters and symb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rite a short passage and create it in code. (This could be using symbols, mixing letters, or a combination of the tw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des appear for many rea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0" y="148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y are usually used to hid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3213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verything you send on the internet is encoded so that hackers do not have access to everyone's privat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0" y="2349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One of the biggest places for codes is on the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5219640" y="4292640"/>
            <a:ext cx="3005280" cy="212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2"/>
          <a:stretch/>
        </p:blipFill>
        <p:spPr>
          <a:xfrm>
            <a:off x="1403280" y="4292640"/>
            <a:ext cx="2737080" cy="215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e are going to look at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ubstitution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0" y="450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se are where letters are changed to make things harder to 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0" y="5589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uring one of Sherlock Holmes’s adventures, he comes a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 Dancing Men Ciph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2170080" y="1413000"/>
            <a:ext cx="4803840" cy="286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826920" y="519120"/>
            <a:ext cx="7490160" cy="298116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0" y="4581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ry to work out the following messag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233360" y="3789360"/>
            <a:ext cx="667728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4572000" y="1268280"/>
            <a:ext cx="43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One of the most common codes people know something about is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Morse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4176720" cy="216252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1"/>
          <p:cNvGrpSpPr/>
          <p:nvPr/>
        </p:nvGrpSpPr>
        <p:grpSpPr>
          <a:xfrm>
            <a:off x="216000" y="3429000"/>
            <a:ext cx="7646760" cy="2803680"/>
            <a:chOff x="216000" y="3429000"/>
            <a:chExt cx="7646760" cy="2803680"/>
          </a:xfrm>
        </p:grpSpPr>
        <p:sp>
          <p:nvSpPr>
            <p:cNvPr id="67" name="TextBox 6"/>
            <p:cNvSpPr/>
            <p:nvPr/>
          </p:nvSpPr>
          <p:spPr>
            <a:xfrm>
              <a:off x="216000" y="3429000"/>
              <a:ext cx="435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Before the internet there were phones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8" descr=""/>
            <p:cNvPicPr/>
            <p:nvPr/>
          </p:nvPicPr>
          <p:blipFill>
            <a:blip r:embed="rId2"/>
            <a:stretch/>
          </p:blipFill>
          <p:spPr>
            <a:xfrm>
              <a:off x="5507640" y="3717000"/>
              <a:ext cx="2355120" cy="251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12"/>
          <p:cNvGrpSpPr/>
          <p:nvPr/>
        </p:nvGrpSpPr>
        <p:grpSpPr>
          <a:xfrm>
            <a:off x="179280" y="3645000"/>
            <a:ext cx="7952040" cy="2833560"/>
            <a:chOff x="179280" y="3645000"/>
            <a:chExt cx="7952040" cy="2833560"/>
          </a:xfrm>
        </p:grpSpPr>
        <p:sp>
          <p:nvSpPr>
            <p:cNvPr id="70" name="TextBox 9"/>
            <p:cNvSpPr/>
            <p:nvPr/>
          </p:nvSpPr>
          <p:spPr>
            <a:xfrm>
              <a:off x="179280" y="4509360"/>
              <a:ext cx="439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…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.and before phones there were telegrams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Picture 9" descr=""/>
            <p:cNvPicPr/>
            <p:nvPr/>
          </p:nvPicPr>
          <p:blipFill>
            <a:blip r:embed="rId3"/>
            <a:stretch/>
          </p:blipFill>
          <p:spPr>
            <a:xfrm>
              <a:off x="5292360" y="3645000"/>
              <a:ext cx="2838960" cy="283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Group 15"/>
          <p:cNvGrpSpPr/>
          <p:nvPr/>
        </p:nvGrpSpPr>
        <p:grpSpPr>
          <a:xfrm>
            <a:off x="179280" y="3429000"/>
            <a:ext cx="8964720" cy="3240000"/>
            <a:chOff x="179280" y="3429000"/>
            <a:chExt cx="8964720" cy="3240000"/>
          </a:xfrm>
        </p:grpSpPr>
        <p:grpSp>
          <p:nvGrpSpPr>
            <p:cNvPr id="73" name="Group 14"/>
            <p:cNvGrpSpPr/>
            <p:nvPr/>
          </p:nvGrpSpPr>
          <p:grpSpPr>
            <a:xfrm>
              <a:off x="179280" y="3429000"/>
              <a:ext cx="8964720" cy="3240000"/>
              <a:chOff x="179280" y="3429000"/>
              <a:chExt cx="8964720" cy="3240000"/>
            </a:xfrm>
          </p:grpSpPr>
          <p:sp>
            <p:nvSpPr>
              <p:cNvPr id="74" name="TextBox 10"/>
              <p:cNvSpPr/>
              <p:nvPr/>
            </p:nvSpPr>
            <p:spPr>
              <a:xfrm>
                <a:off x="179280" y="5589000"/>
                <a:ext cx="4392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… 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and telegrams were sent using </a:t>
                </a:r>
                <a:r>
                  <a:rPr b="0" lang="en-GB" sz="2400" spc="-1" strike="noStrike">
                    <a:solidFill>
                      <a:srgbClr val="ffff00"/>
                    </a:solidFill>
                    <a:latin typeface="Comic Sans MS"/>
                  </a:rPr>
                  <a:t>Morse Code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13"/>
              <p:cNvSpPr/>
              <p:nvPr/>
            </p:nvSpPr>
            <p:spPr>
              <a:xfrm>
                <a:off x="4572000" y="3429000"/>
                <a:ext cx="4572000" cy="3240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6" name="Picture 11" descr=""/>
            <p:cNvPicPr/>
            <p:nvPr/>
          </p:nvPicPr>
          <p:blipFill>
            <a:blip r:embed="rId4"/>
            <a:stretch/>
          </p:blipFill>
          <p:spPr>
            <a:xfrm>
              <a:off x="5004000" y="3789000"/>
              <a:ext cx="3810240" cy="2371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Morse Cod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s very hard to hear and work out without lots of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0" y="1773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t is made up of </a:t>
            </a:r>
            <a:r>
              <a:rPr b="0" lang="en-GB" sz="2400" spc="-1" strike="noStrike">
                <a:solidFill>
                  <a:srgbClr val="92d050"/>
                </a:solidFill>
                <a:latin typeface="Comic Sans MS"/>
              </a:rPr>
              <a:t>quick clicks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or</a:t>
            </a:r>
            <a:r>
              <a:rPr b="0" lang="en-GB" sz="2400" spc="-1" strike="noStrike">
                <a:solidFill>
                  <a:srgbClr val="92d050"/>
                </a:solidFill>
                <a:latin typeface="Comic Sans MS"/>
              </a:rPr>
              <a:t> dot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GB" sz="2400" spc="-1" strike="noStrike">
                <a:solidFill>
                  <a:srgbClr val="95b3d7"/>
                </a:solidFill>
                <a:latin typeface="Comic Sans MS"/>
              </a:rPr>
              <a:t>longer clicks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or</a:t>
            </a:r>
            <a:r>
              <a:rPr b="0" lang="en-GB" sz="2400" spc="-1" strike="noStrike">
                <a:solidFill>
                  <a:srgbClr val="95b3d7"/>
                </a:solidFill>
                <a:latin typeface="Comic Sans MS"/>
              </a:rPr>
              <a:t> dashe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GB" sz="2400" spc="-1" strike="noStrike">
                <a:solidFill>
                  <a:srgbClr val="ffc000"/>
                </a:solidFill>
                <a:latin typeface="Comic Sans MS"/>
              </a:rPr>
              <a:t>short breaks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between</a:t>
            </a:r>
            <a:r>
              <a:rPr b="0" lang="en-GB" sz="2400" spc="-1" strike="noStrike">
                <a:solidFill>
                  <a:srgbClr val="ffc000"/>
                </a:solidFill>
                <a:latin typeface="Comic Sans MS"/>
              </a:rPr>
              <a:t> letter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GB" sz="24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nd </a:t>
            </a:r>
            <a:r>
              <a:rPr b="0" lang="en-GB" sz="2400" spc="-1" strike="noStrike">
                <a:solidFill>
                  <a:srgbClr val="d99694"/>
                </a:solidFill>
                <a:latin typeface="Comic Sans MS"/>
              </a:rPr>
              <a:t>longer breaks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between</a:t>
            </a:r>
            <a:r>
              <a:rPr b="0" lang="en-GB" sz="2400" spc="-1" strike="noStrike">
                <a:solidFill>
                  <a:srgbClr val="d99694"/>
                </a:solidFill>
                <a:latin typeface="Comic Sans MS"/>
              </a:rPr>
              <a:t> 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ction Button: Sound 11">
            <a:hlinkClick r:id="rId1"/>
          </p:cNvPr>
          <p:cNvSpPr/>
          <p:nvPr/>
        </p:nvSpPr>
        <p:spPr>
          <a:xfrm>
            <a:off x="3995640" y="4508640"/>
            <a:ext cx="1152720" cy="1081080"/>
          </a:xfrm>
          <a:custGeom>
            <a:avLst/>
            <a:gdLst>
              <a:gd name="textAreaLeft" fmla="*/ 69840 w 1152720"/>
              <a:gd name="textAreaRight" fmla="*/ 1082880 w 115272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23031" h="21600">
                <a:moveTo>
                  <a:pt x="0" y="0"/>
                </a:moveTo>
                <a:lnTo>
                  <a:pt x="23031" y="0"/>
                </a:lnTo>
                <a:lnTo>
                  <a:pt x="23031" y="21600"/>
                </a:lnTo>
                <a:lnTo>
                  <a:pt x="0" y="21600"/>
                </a:lnTo>
                <a:close/>
              </a:path>
              <a:path fill="lightenLess" w="23031" h="21600">
                <a:moveTo>
                  <a:pt x="0" y="0"/>
                </a:moveTo>
                <a:lnTo>
                  <a:pt x="23031" y="0"/>
                </a:lnTo>
                <a:lnTo>
                  <a:pt x="21631" y="1400"/>
                </a:lnTo>
                <a:lnTo>
                  <a:pt x="1400" y="1400"/>
                </a:lnTo>
                <a:close/>
              </a:path>
              <a:path fill="darken" w="23031" h="21600">
                <a:moveTo>
                  <a:pt x="23031" y="0"/>
                </a:moveTo>
                <a:lnTo>
                  <a:pt x="23031" y="21600"/>
                </a:lnTo>
                <a:lnTo>
                  <a:pt x="21631" y="20200"/>
                </a:lnTo>
                <a:lnTo>
                  <a:pt x="21631" y="1400"/>
                </a:lnTo>
                <a:close/>
              </a:path>
              <a:path fill="darkenLess" w="23031" h="21600">
                <a:moveTo>
                  <a:pt x="23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1" y="20200"/>
                </a:lnTo>
                <a:close/>
              </a:path>
              <a:path fill="lighten" w="23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1" h="21600">
                <a:moveTo>
                  <a:pt x="4509" y="8406"/>
                </a:moveTo>
                <a:lnTo>
                  <a:pt x="8939" y="8406"/>
                </a:lnTo>
                <a:lnTo>
                  <a:pt x="13361" y="3794"/>
                </a:lnTo>
                <a:lnTo>
                  <a:pt x="13361" y="17806"/>
                </a:lnTo>
                <a:lnTo>
                  <a:pt x="8939" y="13194"/>
                </a:lnTo>
                <a:lnTo>
                  <a:pt x="4509" y="13194"/>
                </a:lnTo>
                <a:close/>
              </a:path>
              <a:path fill="darken" w="23031" h="21600">
                <a:moveTo>
                  <a:pt x="15014" y="10800"/>
                </a:moveTo>
                <a:lnTo>
                  <a:pt x="18522" y="10800"/>
                </a:lnTo>
              </a:path>
              <a:path fill="darken" w="23031" h="21600">
                <a:moveTo>
                  <a:pt x="15014" y="8406"/>
                </a:moveTo>
                <a:lnTo>
                  <a:pt x="18522" y="5639"/>
                </a:lnTo>
              </a:path>
              <a:path fill="darken" w="23031" h="21600">
                <a:moveTo>
                  <a:pt x="15014" y="13194"/>
                </a:moveTo>
                <a:lnTo>
                  <a:pt x="18522" y="15961"/>
                </a:lnTo>
              </a:path>
            </a:pathLst>
          </a:cu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0" y="3198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isten to the sound of a short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Morse Cod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essage. Then listen again to try and keep up with dots, dashes and sp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is what you should have g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0" y="177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– – 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– – –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· – · 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· · ·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·       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– · – ·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– – – 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– · ·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ction Button: Sound 11">
            <a:hlinkClick r:id="rId1"/>
          </p:cNvPr>
          <p:cNvSpPr/>
          <p:nvPr/>
        </p:nvSpPr>
        <p:spPr>
          <a:xfrm>
            <a:off x="3995640" y="4508640"/>
            <a:ext cx="1152720" cy="1081080"/>
          </a:xfrm>
          <a:custGeom>
            <a:avLst/>
            <a:gdLst>
              <a:gd name="textAreaLeft" fmla="*/ 69840 w 1152720"/>
              <a:gd name="textAreaRight" fmla="*/ 1082880 w 115272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23031" h="21600">
                <a:moveTo>
                  <a:pt x="0" y="0"/>
                </a:moveTo>
                <a:lnTo>
                  <a:pt x="23031" y="0"/>
                </a:lnTo>
                <a:lnTo>
                  <a:pt x="23031" y="21600"/>
                </a:lnTo>
                <a:lnTo>
                  <a:pt x="0" y="21600"/>
                </a:lnTo>
                <a:close/>
              </a:path>
              <a:path fill="lightenLess" w="23031" h="21600">
                <a:moveTo>
                  <a:pt x="0" y="0"/>
                </a:moveTo>
                <a:lnTo>
                  <a:pt x="23031" y="0"/>
                </a:lnTo>
                <a:lnTo>
                  <a:pt x="21631" y="1400"/>
                </a:lnTo>
                <a:lnTo>
                  <a:pt x="1400" y="1400"/>
                </a:lnTo>
                <a:close/>
              </a:path>
              <a:path fill="darken" w="23031" h="21600">
                <a:moveTo>
                  <a:pt x="23031" y="0"/>
                </a:moveTo>
                <a:lnTo>
                  <a:pt x="23031" y="21600"/>
                </a:lnTo>
                <a:lnTo>
                  <a:pt x="21631" y="20200"/>
                </a:lnTo>
                <a:lnTo>
                  <a:pt x="21631" y="1400"/>
                </a:lnTo>
                <a:close/>
              </a:path>
              <a:path fill="darkenLess" w="23031" h="21600">
                <a:moveTo>
                  <a:pt x="23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1" y="20200"/>
                </a:lnTo>
                <a:close/>
              </a:path>
              <a:path fill="lighten" w="23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1" h="21600">
                <a:moveTo>
                  <a:pt x="4509" y="8406"/>
                </a:moveTo>
                <a:lnTo>
                  <a:pt x="8939" y="8406"/>
                </a:lnTo>
                <a:lnTo>
                  <a:pt x="13361" y="3794"/>
                </a:lnTo>
                <a:lnTo>
                  <a:pt x="13361" y="17806"/>
                </a:lnTo>
                <a:lnTo>
                  <a:pt x="8939" y="13194"/>
                </a:lnTo>
                <a:lnTo>
                  <a:pt x="4509" y="13194"/>
                </a:lnTo>
                <a:close/>
              </a:path>
              <a:path fill="darken" w="23031" h="21600">
                <a:moveTo>
                  <a:pt x="15014" y="10800"/>
                </a:moveTo>
                <a:lnTo>
                  <a:pt x="18522" y="10800"/>
                </a:lnTo>
              </a:path>
              <a:path fill="darken" w="23031" h="21600">
                <a:moveTo>
                  <a:pt x="15014" y="8406"/>
                </a:moveTo>
                <a:lnTo>
                  <a:pt x="18522" y="5639"/>
                </a:lnTo>
              </a:path>
              <a:path fill="darken" w="23031" h="21600">
                <a:moveTo>
                  <a:pt x="15014" y="13194"/>
                </a:moveTo>
                <a:lnTo>
                  <a:pt x="18522" y="15961"/>
                </a:lnTo>
              </a:path>
            </a:pathLst>
          </a:cu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0" y="31989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isten to the sound again and see if you can follow a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0" y="1052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You are going to be give a sheet with these codes on to decipher for you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324000" y="335772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By each piece of coding the cipher key is also inclu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4859280" y="2133720"/>
            <a:ext cx="3421080" cy="42894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16"/>
          <p:cNvGrpSpPr/>
          <p:nvPr/>
        </p:nvGrpSpPr>
        <p:grpSpPr>
          <a:xfrm>
            <a:off x="3708000" y="2996640"/>
            <a:ext cx="1656000" cy="2088000"/>
            <a:chOff x="3708000" y="2996640"/>
            <a:chExt cx="1656000" cy="2088000"/>
          </a:xfrm>
        </p:grpSpPr>
        <p:cxnSp>
          <p:nvCxnSpPr>
            <p:cNvPr id="92" name="Straight Arrow Connector 11"/>
            <p:cNvCxnSpPr>
              <a:stCxn id="89" idx="3"/>
            </p:cNvCxnSpPr>
            <p:nvPr/>
          </p:nvCxnSpPr>
          <p:spPr>
            <a:xfrm flipV="1">
              <a:off x="3708360" y="2996640"/>
              <a:ext cx="1224720" cy="1176840"/>
            </a:xfrm>
            <a:prstGeom prst="straightConnector1">
              <a:avLst/>
            </a:prstGeom>
            <a:ln w="38160">
              <a:solidFill>
                <a:srgbClr val="a6a6a6"/>
              </a:solidFill>
              <a:miter/>
              <a:tailEnd len="med" type="arrow" w="med"/>
            </a:ln>
          </p:spPr>
        </p:cxnSp>
        <p:cxnSp>
          <p:nvCxnSpPr>
            <p:cNvPr id="93" name="Straight Arrow Connector 13"/>
            <p:cNvCxnSpPr>
              <a:stCxn id="89" idx="3"/>
            </p:cNvCxnSpPr>
            <p:nvPr/>
          </p:nvCxnSpPr>
          <p:spPr>
            <a:xfrm flipV="1">
              <a:off x="3708360" y="3860280"/>
              <a:ext cx="1296000" cy="313200"/>
            </a:xfrm>
            <a:prstGeom prst="straightConnector1">
              <a:avLst/>
            </a:prstGeom>
            <a:ln w="38160">
              <a:solidFill>
                <a:srgbClr val="a6a6a6"/>
              </a:solidFill>
              <a:miter/>
              <a:tailEnd len="med" type="arrow" w="med"/>
            </a:ln>
          </p:spPr>
        </p:cxnSp>
        <p:cxnSp>
          <p:nvCxnSpPr>
            <p:cNvPr id="94" name="Straight Arrow Connector 15"/>
            <p:cNvCxnSpPr>
              <a:stCxn id="89" idx="3"/>
            </p:cNvCxnSpPr>
            <p:nvPr/>
          </p:nvCxnSpPr>
          <p:spPr>
            <a:xfrm>
              <a:off x="3708000" y="4173120"/>
              <a:ext cx="1656360" cy="911880"/>
            </a:xfrm>
            <a:prstGeom prst="straightConnector1">
              <a:avLst/>
            </a:prstGeom>
            <a:ln w="38160">
              <a:solidFill>
                <a:srgbClr val="a6a6a6"/>
              </a:solidFill>
              <a:miter/>
              <a:tailEnd len="med" type="arrow" w="med"/>
            </a:ln>
          </p:spPr>
        </p:cxnSp>
      </p:grpSp>
      <p:sp>
        <p:nvSpPr>
          <p:cNvPr id="95" name="TextBox 17"/>
          <p:cNvSpPr/>
          <p:nvPr/>
        </p:nvSpPr>
        <p:spPr>
          <a:xfrm>
            <a:off x="237240" y="47628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Comic Sans MS"/>
              </a:rPr>
              <a:t>Task 1 – On Your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68360" y="836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nother way to make a cipher code is to mix up the letters instead of using symb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0" y="2708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or example suppose I change the letters around s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0" y="3500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become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becomes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becomes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becomes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0" y="5300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n the word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HELLO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becom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Comic Sans MS"/>
              </a:rPr>
              <a:t>XLP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tretch/>
        </p:blipFill>
        <p:spPr>
          <a:xfrm>
            <a:off x="5508720" y="549360"/>
            <a:ext cx="2662200" cy="194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6:51:54Z</dcterms:created>
  <dc:creator>Hoskin</dc:creator>
  <dc:description/>
  <dc:language>en-US</dc:language>
  <cp:lastModifiedBy>Jean Gray</cp:lastModifiedBy>
  <dcterms:modified xsi:type="dcterms:W3CDTF">2012-08-28T12:24:12Z</dcterms:modified>
  <cp:revision>52</cp:revision>
  <dc:subject/>
  <dc:title>Slide 1</dc:title>
</cp:coreProperties>
</file>